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.wav" ContentType="audio/x-wav"/>
  <Override PartName="/ppt/media/image7.png" ContentType="image/png"/>
  <Override PartName="/ppt/media/mmburger%5B1%5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50D-CDFC-47B2-9C41-0A5768A9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357-EE46-4210-B44B-BA6C3CE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B30-F8AF-4ED8-A2D9-A09C88BA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1A5-0AE9-420F-9198-00A54DBD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71D-2214-45DA-B6F3-AE9C3E61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7AFD-AC58-4110-B5D0-D0EC93F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466-5778-4C5C-85D5-832C7FC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1CF-C12D-4FFF-824D-6D1A852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EC0-54CF-4857-AA02-0C7C3E5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874-59D9-4F27-AAE5-B1165AF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C0B-646E-468D-8D60-A874298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D4E-573C-4E73-A12C-7290C23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2F3-71AF-4B6E-81FA-4AF7A32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A5D0-9F43-4B11-87C1-5F774DB3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B0F6-CC4F-476C-869D-4C14B1F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D5A-9F1A-4E20-9501-F4C81556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6FB-F7C6-4D1D-BD5A-B13ABD0A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5EA-91D3-4B9B-98B2-721104B5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A1B-6CA0-4A64-B0DA-1A5FB17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2DD-BFD9-435B-937F-2655C6C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BD9-727E-41A0-97F9-02BCE6D7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2FE-CDBA-4465-81F5-D8583B1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8C6-D5C5-4CD3-98F4-F36B6DF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CE6-67AD-4EE5-BB66-BDFD347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5CA3-23ED-4223-96E0-213AD7206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A7A9-2180-4464-9242-497486FAD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.wav"/><Relationship Id="rId3" Type="http://schemas.openxmlformats.org/officeDocument/2006/relationships/audio" Target="../media/mmburger%5B1%5D.wav"/><Relationship Id="rId4" Type="http://schemas.openxmlformats.org/officeDocument/2006/relationships/audio" Target="../media/mmburger%5B1%5D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n AH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562720"/>
            <a:ext cx="6248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000"/>
                </a:solidFill>
                <a:latin typeface="Hot Pizza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c80000"/>
                </a:solidFill>
                <a:latin typeface="Hot Pizza"/>
              </a:rPr>
              <a:t>Horace Greeley H. S. 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</a:t>
            </a:r>
            <a:r>
              <a:rPr b="1" lang="en-US" sz="2600" spc="-1" strike="noStrike" u="sng">
                <a:solidFill>
                  <a:srgbClr val="ff1d1d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8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</a:t>
            </a:r>
            <a:r>
              <a:rPr b="0" lang="en-US" sz="4600" spc="-1" strike="noStrike" u="sng">
                <a:solidFill>
                  <a:srgbClr val="008600"/>
                </a:solidFill>
                <a:uFillTx/>
                <a:latin typeface="Hot Pizza"/>
              </a:rPr>
              <a:t>A Perfect Essay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9907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reate a rough draft in outline form using this form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971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[underline or highlight 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7086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reate a loose outline of your “meat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 in this mann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2880"/>
            <a:ext cx="8763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600"/>
                </a:solidFill>
                <a:latin typeface="Hot Pizza"/>
              </a:rPr>
              <a:t>DO-NOW In Clas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867280"/>
            <a:ext cx="8229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kip a line after your last “meat” ¶ and write you concluding ¶ out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1219320"/>
            <a:ext cx="8229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39720"/>
            <a:ext cx="80010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3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2552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8222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Now, Go  Home &amp; Write Your  Essay  And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Dazzle Me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With Your Brilliance</a:t>
            </a: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990720"/>
            <a:ext cx="6324480" cy="534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YOU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CA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DO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IT!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60020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6623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057400"/>
            <a:ext cx="8382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mith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an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</a:t>
            </a:r>
            <a:r>
              <a:rPr b="1" lang="en-US" sz="2700" spc="-1" strike="noStrike" baseline="30000">
                <a:solidFill>
                  <a:srgbClr val="fa0000"/>
                </a:solidFill>
                <a:latin typeface="Comic Sans MS"/>
              </a:rPr>
              <a:t>c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7913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3400" spc="-1" strike="noStrike">
                <a:solidFill>
                  <a:srgbClr val="3333cc"/>
                </a:solidFill>
                <a:latin typeface="Comic Sans MS"/>
              </a:rPr>
              <a:t> begin with: In Document 3,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10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supojer</cp:lastModifiedBy>
  <dcterms:modified xsi:type="dcterms:W3CDTF">2008-09-12T14:03:16Z</dcterms:modified>
  <cp:revision>106</cp:revision>
  <dc:subject/>
  <dc:title>How To Do an AHAP DNQ</dc:title>
</cp:coreProperties>
</file>